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74A7-17EC-4411-A06B-FFC13681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8A4-E1B2-4B16-B610-FC9A3664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71CEC-D2DE-4E5D-B7EE-C62AA581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3B167-0A79-4031-80B7-9617C311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610C6-4CA0-4B1D-B611-B71A7069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E2E74-DC76-406E-AC5D-DC657B95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70405-6A47-43FD-B31D-A73600DA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D3176-F4BE-485E-82B1-58F6DA94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9A6D6-33AB-4091-A64A-8F0E84D0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ADE4D-BE6B-4956-A684-EC907187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E546E-D08C-4F7C-9354-BF9080A5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99422-2D16-4A9E-9F55-FB903114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8DE8-A446-486C-9341-CF2C6097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5A188-CAC9-4CA8-84F7-92367E26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DDF09-FB34-4A59-AB32-82345D65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29D44-8FB2-4296-9187-359A5CB8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03CEC-7662-4CC3-9324-880B80E5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312B5-0B94-4F85-9FD1-7CBEAC73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9E7E2-D98D-4511-A4AC-7AE55A3E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9EAD8-5300-463B-81C7-98A0B4DD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CD287-738C-40AC-A12B-7023F08D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19BDE-0B01-43AF-B01D-ED3BE81C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025F5-35F5-47DB-AA4D-B9D66A38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CBB5-0F11-4550-8016-874E7B59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509EB-D381-44AA-843A-61C677A0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94790-2F92-4080-8DBC-5AF03F4E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DF06E-CA61-4E7F-8C38-405A9D0F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45407-7482-47B9-B0A7-B09B6A12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B4337-D7BF-42CA-B5D4-7FCC03CB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76CCE-4BFD-4B9A-BAFB-0B1CCBDC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00422-EA20-4A83-AA09-6412AABE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0FE65-2087-4EB0-946F-F98B9644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962F4-9AA1-4B1C-8D08-023D8161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01AD0-4A31-447E-A17B-0E53043D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74E3-01FD-40B9-B900-85EC97F0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01519-350E-4719-BF96-EC55A7C1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B1374-FCC8-4913-8323-CF8593AC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A26EC-AB00-4E2D-BB0D-FA636AD6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95185-D6E9-4941-9713-37F25965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86F76-6B4D-4F84-98A4-51D4FD81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3AA0C-4A12-4C96-9874-31696A98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B0CF4-9F84-48CF-8DF4-0C7F2DF4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DB481-3926-4BAE-B26C-ECA6A7AA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66B4B-682B-439A-B463-99D054E5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37662-4277-4DD4-80A8-B640E379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1C94-ABAA-44D8-B709-F2303E58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EAE20-8A07-44A8-BCE9-12ADFBA2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63C9B-0D5B-4549-8693-2DB15E81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EB276-79DE-40C9-A101-876FF782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E65DE-E512-43B4-A94C-0D776427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52B55-A3BE-4F59-9587-FB0B165D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0A6D2-A81E-4F30-A25F-FDD2C306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D6575D-1F85-4DB5-8827-8A72B2A4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E2773-A8E9-4FF3-9FE2-384A2B78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CE3FDB-FB9D-454F-9051-326D67E0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31F267-DE79-47E4-9E0D-F2A0101D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7BB3-A19E-4AD6-8E72-2AA6E1E6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E814E-36D7-44E1-BA28-8D719C9C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F03BB-8027-42A4-979B-178C9651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21C7A-66ED-4DD0-AEAD-29F2198B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5A4AB-7F2F-4CF2-89DF-166C0932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5936C2-F834-4C83-A79C-3067DA36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EEA7FA-D8E4-40E8-9A4A-D811B4CB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67EED-87BE-4CB7-9396-4FDECE5C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A11BE3-ECB8-4EEE-A423-46DF8A59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7F7F65-8FB6-47DC-B186-DE7BC049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8E39C-77BB-425F-AB9D-AE9B44BA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A475-4A9B-4703-A305-523EE16F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43FAE2-B3AB-4D9A-B8FA-0A1110D4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77A707-4547-4A76-8C56-37DFC484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2DC55A-1493-48E2-A2A8-21037BB6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7161FB-358F-45C0-9262-5BD36F3D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F38935-A024-4A2A-820F-D229D4E9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289483-0345-476A-B2F2-4E6A7BBA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022F0A-CD57-4734-9B82-FD2367B4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DDD094-CF76-4EE0-8230-61F928D1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B5F745-166B-472A-AF95-346328B9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F2BFB8-FB94-4107-AF00-6EBF3256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BA12-0B4D-4F85-A733-79C808A4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3C27B6-79FB-4B7E-A31C-C4D4280C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70FA9F-913E-4FF2-BADB-4789D65B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10E1BF-B655-44F3-AD19-30F8135F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4A2B44-427F-432D-8A97-F8D8E508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49A973-B105-4801-A99E-C7DAA4C9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E1208-916C-4C4A-B942-C341B48F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38F4A9-FD1B-48FD-9CF0-8C90452E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8ACB7C-132F-4F58-BD16-38DA6F21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B595B8-3DF0-4485-B5AD-3EC9BE29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F9D402-0623-46DC-B68D-ABE87E85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48D1-1FA2-46B1-AAFD-EB8E248C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38ADD7-0655-4060-9D7A-EEEEB35B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7F0D25-42D6-4C4A-86EB-24753742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8247E0-172C-4474-A4A7-E4B29D58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67C931-B895-44F5-A637-8C7F59C1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B77F56-8D94-42B7-9D5C-E0BBA6F9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E80DC0-938A-4CD7-AB4D-315B0C99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6793F5-F272-4A7C-BD08-1D3FDC8F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F83317-2AD2-4668-A162-0149F1F8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68E9F1-12B6-4632-99AC-842C0047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4842F4-29C3-4795-BC59-FEF10AE2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3507-34EB-4469-A652-EC14EC84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976729-4F0F-44E5-81FA-5DB508D4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E0F80A-6BAF-4A9F-9511-845EBCBE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F98406-2176-43DE-884D-14FE3762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28DBB1-7C88-4A5A-B95F-B047B439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807644-0EBB-4745-AE02-9A629550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E78B9F-21B7-49EC-8CEA-0512D587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E40C6B-AF25-4692-B646-BC6D7592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40CE67-957A-4267-A096-4BE3D1AF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11B60D-98EE-4B28-92BF-72E3E7A3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891CA1-AED2-4A58-A3C5-74A470B2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F33E-38F1-4247-BF81-282233C0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6C4B-3ABA-48B4-8FDC-9B2C16E6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7717E2-ACF0-4FAB-BCB4-B332BE34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91CE1D-0896-4FB5-A25B-97F22922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B14FE5-CC99-4BB3-8B85-0AD40595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626A9A-E90B-473A-902A-F0229FE5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F0B8F3-C313-4B35-96D3-E4860C17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C4D974-36C6-45C5-8503-C66B9B2B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39A2F3-51A8-4F90-A16E-1A69D512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A61055-7BBB-4BBF-95AF-A5CA4B6B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801466-D68A-4916-BE2D-1FCF04D7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C0A15B-C1E6-4CDB-953D-90E964D8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B75B-218E-4C0F-8CE0-6C01E829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B2DFCE-FFB1-4E71-837C-293961A2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07B09E-30E9-4391-8660-E7CFC8CF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924B97-A792-4027-8E81-77CBD472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3CB672-E08B-434E-B5DE-0200BC25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3C03A5-4ACC-4CDD-8023-4B33FB17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920609-A078-44FB-83B1-02E560DB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AE2A6A-9D20-4466-9E6F-D8D34ACC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1E6F08-003E-402E-A8A3-DE06E138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0AE951-1B47-4A29-B017-23CAE94D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865F60-A94B-455A-A52E-DF188090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4F4F-18C1-4BD2-A4B4-0AC1D706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7111BA-193C-4BA8-9FDB-88BC617A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3D6138-91FE-4BAB-BD6B-B337E7A6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EA2EA3-680C-4907-8DCE-795BF98A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E411E6-5261-445C-A484-95C06F3A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DB3C7C-0E69-458D-866E-45126DAF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20A4AA-1AB5-4FCE-A223-CC740C81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76CE5D-21FF-4A5C-88BF-0C0B37DB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BCA4D2-4907-4130-B928-96BCA323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490AFB-0C58-4CB2-9D52-75F0943A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840CB0-6D7A-4A3D-945D-F9D05921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897D-1546-4DA8-B227-3FA65D14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85F5F1-AEA0-4D94-BC6E-D6E62311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3E1B8D-EB27-44AE-B9D8-FC65D244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B80B38-C271-4B54-A202-41D51220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FC13C2-DB29-4045-9968-61F0CF71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C15D76-B6EC-4455-81CA-A85DDCA5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E7CC8F-78CC-432F-BE58-C80B0DBC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A10A25-B2A3-4A58-9C82-A53E468A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29232E-244D-4261-AF5A-8079B036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D35E35-51C2-4F35-A056-0BF6CD1D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478C18-CA28-42FA-9788-E9560439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70B5-8AD2-4C97-A7C3-6B25AE08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50D544-BFEA-418F-B038-F72A9A45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42056E-5B8A-4851-BA8C-A0AF027B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87EA20-8BB9-40CC-BC47-7E054FD6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E481BA-AC23-4B14-AB96-B504712A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A9FCFE-E447-4A99-8A58-032D7455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CB5447-900B-4952-A302-29967C72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8E0F8D-C253-4F25-A214-5F3961C8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6B2C12-9D27-4E0D-B32F-98F492B8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5355C1-C89F-4DB1-B041-BF4195AA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58B3B3-8E52-4E63-8E2C-9CB25C1E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4A005-09A9-403D-8B2A-2526A606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22BC60-4DEC-44AF-A97F-EAB8A576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1C9C20-EE17-4358-999E-85BA9396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7F9942-E496-48D5-9A47-684966C0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9DC5A-0F4B-4759-9A87-E8E258D6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BF3CC-7CD9-4D28-8F1C-534DEABC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524BD-DF5D-4E56-8F39-08AF4286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074CF-7468-45CF-B384-0D9C830D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D36-1944-4CDA-A0C1-2DF29C72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541C1-02CC-4F42-BD94-2A4E66E4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52947-8A76-4B11-BDEF-DE45E0FA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B6C0D-6135-4ABC-9B87-CEA391BC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C035B-8EF2-49E4-B22C-EBF43B4B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291E7-C88E-4CE5-9620-A3065AA0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9D71A-13B6-422A-B719-D285F6E9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AC298-E64B-4E91-ACBE-9E85171B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EE9A1-F2B9-41C6-93F2-780AF776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BB969-1F96-43BC-B35F-9E597ADC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D0632-367F-4967-8941-23D6813E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4C7D-2F3D-4320-A0F3-17D69789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5A94C-059E-4BAB-A256-D1BA4FF8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BB119-F46E-4678-85BF-427CA7FC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2C7A3-EC7B-4F5A-A8E1-FA45FAFA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77DA1-A4A9-4706-83E1-FCCC2A67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C6418-5BA3-485D-887D-8C49EFEC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F478C-EFC4-404B-A07D-1731ADC6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27FDF-CC27-4AC7-8A93-4AD04589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59FA9-BAF9-43E7-BB6D-E8593140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49597-6791-4DAD-B412-E62A7182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3244E-A932-4CBF-AA65-9D80B6E0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0C5-BE7F-43CF-9D97-21968938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D7597-8422-4006-825F-0026FADB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60D0B-80DE-49C4-B84C-30DC16DD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61159-E58E-41D7-A575-BC9EA4FA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BA8A1-B387-4B4E-82D4-BB5AFF19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59A9F-2E50-4E0B-8ED5-59363DC8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F0072-FC2F-46B2-8FDF-4F6F3872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A8EDE-BEA1-452A-8BB8-C62EDD79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37392-67D4-46EA-A07A-C1A5F60C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41EAE-66F6-4ED7-8F05-A1F85A5B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32B45-B82F-4CA9-8B0A-87256EDB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2C4-BF9D-4112-B8EA-F0FD615C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D9C79-A4C6-4D36-A60F-702767D6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129CF-E4DF-4B83-9323-94BDA67E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431A5-E7CB-4262-AA64-41545598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D01EB-594E-438E-A6C8-C45C3375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AC841-8555-4092-94E7-A07E8DDC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7CBC8-C069-4BD3-AFFB-9BDF40DA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47D48-9421-43B6-B723-02D2E89D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14D60-79E9-40C4-924E-7E0FFB3E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B9028-EECE-4885-809A-0ED900E5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6446F-FEDE-4CF4-8342-5BFF21BA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D00-4717-4033-9944-3EB1B949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98ABB-347B-4664-9105-92A907EA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AF5F3-8921-4AD4-B121-45B2CDE4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84AC8-7CE1-4E29-B0EC-FA66273E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651E7-5E04-4E5D-AD42-DEEC0045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D0DB2-8FA5-47A2-8E15-5E2451CE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7B4D1-D102-4B12-B78F-14AC9A3B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7E844-1C19-4CE1-A9A3-B1F88BF1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FF37C-4EDD-4FE4-B86D-A8C427C3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73402-7C2A-45F1-9909-AF8FA8C6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01830-278B-4D26-9670-CE2EF84F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77E0-BEF7-4CBF-B6C3-37FCB16F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F6522-58D2-4E48-86D7-42E4DC4D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7A41E-584E-4666-817A-07B681F4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61695-E870-48BD-B3DC-61818D69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35493-279B-4581-8EC8-AC26B5BC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50880-AEC1-4720-9442-399DC00F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80EE2-6CAF-48BE-BD8E-0D43455D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82D28-FC7D-4E2B-ADEA-74B9ED9B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4A0C9-BA53-4543-8DC4-05256D23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253B0-0D33-435B-91F7-033640E3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1D90B-97E4-4CB9-894E-15CBE544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29AD-957A-4FFB-93D2-2A3F4E56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70C54-DB02-4BB5-B7F2-2DA4F41E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16B98-0623-4A32-A25E-D24624F2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21429-C3D2-42CA-A2B4-EA2F84B2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38370-C607-4265-B515-B0EAFFF2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3C3CD-8B7B-47D1-B570-1971FECF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84C29-9CD2-4558-ADCD-FA713C3E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146F0-52F0-4597-AC75-9CADE69D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646FE-2D75-4B6D-AB78-3478ED2B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8FBA0-0089-4AFE-89EF-6089DD30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44DB1-E5F4-4201-8917-3E6571AD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C76F-DC32-496F-960B-B06AAB6B48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50AD-27D5-4A8B-828B-E199392CF8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67C6-8E3B-46B4-9F56-328A8A21B1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D2D6-13A0-449E-AB1C-704A0939D0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199B-9E3C-4463-8274-E6525ECC85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2040-9761-43E2-9C39-475819A5CF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6B33-F9A1-4A0B-89C4-F4F11E6745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9AB4-A7F4-4AA3-BD5D-1D76AED62D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1F94-ED4A-46C6-8A70-F1347C0CB6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1943-BD31-4955-95E3-E0F15E1995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CACD-32EE-47DD-851E-B242F23690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0AB5-3A16-4539-B59E-7A16058BC1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CF36-29A6-4FEB-BC32-6332CE10EA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7A5E-1FF7-4B8C-A1AB-3C52D5DDAB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AB90-F16F-46AA-AA65-0B771407CA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9886-0311-4C07-BEA6-3B22E51680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8ED7-47BB-45E6-A252-1E236ACCF2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FC7B-F086-4135-AE76-A3ECECF8B0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61E9-DD64-4BDB-9F6D-0EE085B0AA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9AF6-46AF-421E-A5F9-015F4F2536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BE4C-EAD2-4444-A492-E35A0296AE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9F06-91E0-4E8F-BAF4-A6CDB06D8A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F4DC-A175-4E2B-819D-A33FECDDC2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7423-B879-428B-9CF5-DA7BE1C62E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9B7D-37F4-4D7A-B2D5-CD18185585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377F-FEB0-4DCE-9523-F59DC3D031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D4B3-E65C-4950-8BD9-95D8FC580E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BE43-3104-493C-9212-13D2DB829A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899F-C5E8-4E09-989D-726FD5862B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1995-A2F1-451F-A3B1-0E7BB4EBBF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BE70-9537-4888-BAE6-603A3C597C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64F9-B41A-4E1E-8F32-1638DA1D8B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D364-3FE0-4A0A-BED8-DD9FB301DE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51CB-3CB3-4BFA-9533-93184A5CB7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C8DB-A120-4E99-BA91-28A99BEB81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7912-5332-46D2-902C-ECF5049692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E52E-3523-4E07-A9C0-48AD3B7B95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B9A3-463C-4140-AF1F-A0003EBF93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7E2F-3C95-4C6E-B629-59B63FCA28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17C9-D69C-44FE-B81C-6B063D1461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52680" y="1989000"/>
            <a:ext cx="2438640" cy="7718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066680" y="3411360"/>
            <a:ext cx="70106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69633" descr=""/>
          <p:cNvPicPr/>
          <p:nvPr/>
        </p:nvPicPr>
        <p:blipFill>
          <a:blip r:embed="rId1"/>
          <a:stretch/>
        </p:blipFill>
        <p:spPr>
          <a:xfrm>
            <a:off x="309600" y="76320"/>
            <a:ext cx="8524800" cy="67053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684360" y="2781360"/>
            <a:ext cx="496728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684360" y="3457440"/>
            <a:ext cx="496728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971640" y="4192560"/>
            <a:ext cx="748800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826920" y="4927680"/>
            <a:ext cx="748836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884160" y="5559480"/>
            <a:ext cx="806472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68609" descr=""/>
          <p:cNvPicPr/>
          <p:nvPr/>
        </p:nvPicPr>
        <p:blipFill>
          <a:blip r:embed="rId1"/>
          <a:stretch/>
        </p:blipFill>
        <p:spPr>
          <a:xfrm>
            <a:off x="890640" y="1125360"/>
            <a:ext cx="7362720" cy="224820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68610" descr=""/>
          <p:cNvPicPr/>
          <p:nvPr/>
        </p:nvPicPr>
        <p:blipFill>
          <a:blip r:embed="rId2"/>
          <a:stretch/>
        </p:blipFill>
        <p:spPr>
          <a:xfrm>
            <a:off x="390600" y="3635280"/>
            <a:ext cx="8362800" cy="23148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4500720" y="173052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4284720" y="2349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7280280" y="1700280"/>
            <a:ext cx="676440" cy="447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6"/>
          <a:stretch/>
        </p:blipFill>
        <p:spPr>
          <a:xfrm>
            <a:off x="7236000" y="2290680"/>
            <a:ext cx="67608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7"/>
          <a:stretch/>
        </p:blipFill>
        <p:spPr>
          <a:xfrm>
            <a:off x="1908000" y="4221000"/>
            <a:ext cx="100836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8"/>
          <a:stretch/>
        </p:blipFill>
        <p:spPr>
          <a:xfrm>
            <a:off x="2152800" y="48690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9"/>
          <a:stretch/>
        </p:blipFill>
        <p:spPr>
          <a:xfrm>
            <a:off x="5148360" y="42210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10"/>
          <a:stretch/>
        </p:blipFill>
        <p:spPr>
          <a:xfrm>
            <a:off x="5076720" y="48690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1"/>
          <a:stretch/>
        </p:blipFill>
        <p:spPr>
          <a:xfrm>
            <a:off x="8317080" y="4249800"/>
            <a:ext cx="57600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2"/>
          <a:stretch/>
        </p:blipFill>
        <p:spPr>
          <a:xfrm>
            <a:off x="8101080" y="4897440"/>
            <a:ext cx="57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66760" y="1014480"/>
            <a:ext cx="8610480" cy="4829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7451640" y="3068640"/>
            <a:ext cx="144144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1187280" y="3673440"/>
            <a:ext cx="100980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6804000" y="368784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3492360" y="4826160"/>
            <a:ext cx="115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623880" y="1719360"/>
            <a:ext cx="7896240" cy="34192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4140360" y="17575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3924360" y="23493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5148360" y="292428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1692360" y="3500280"/>
            <a:ext cx="194292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5292720" y="40766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1476360" y="465300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8373" descr=""/>
          <p:cNvPicPr/>
          <p:nvPr/>
        </p:nvPicPr>
        <p:blipFill>
          <a:blip r:embed="rId1"/>
          <a:stretch/>
        </p:blipFill>
        <p:spPr>
          <a:xfrm>
            <a:off x="304920" y="1623960"/>
            <a:ext cx="8534160" cy="36100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5867280" y="2363760"/>
            <a:ext cx="172908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5651640" y="2997360"/>
            <a:ext cx="129672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7451640" y="357336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1403280" y="4105440"/>
            <a:ext cx="86508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6213600" y="4695840"/>
            <a:ext cx="172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7352" descr=""/>
          <p:cNvPicPr/>
          <p:nvPr/>
        </p:nvPicPr>
        <p:blipFill>
          <a:blip r:embed="rId1"/>
          <a:stretch/>
        </p:blipFill>
        <p:spPr>
          <a:xfrm>
            <a:off x="619200" y="981000"/>
            <a:ext cx="7905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6324" descr=""/>
          <p:cNvPicPr/>
          <p:nvPr/>
        </p:nvPicPr>
        <p:blipFill>
          <a:blip r:embed="rId1"/>
          <a:stretch/>
        </p:blipFill>
        <p:spPr>
          <a:xfrm>
            <a:off x="981000" y="1747800"/>
            <a:ext cx="7182000" cy="3362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5853240" y="191628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3132000" y="3659040"/>
            <a:ext cx="1584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414360" y="1643040"/>
            <a:ext cx="8315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4276" descr=""/>
          <p:cNvPicPr/>
          <p:nvPr/>
        </p:nvPicPr>
        <p:blipFill>
          <a:blip r:embed="rId1"/>
          <a:stretch/>
        </p:blipFill>
        <p:spPr>
          <a:xfrm>
            <a:off x="971640" y="816120"/>
            <a:ext cx="720072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2231" descr=""/>
          <p:cNvPicPr/>
          <p:nvPr/>
        </p:nvPicPr>
        <p:blipFill>
          <a:blip r:embed="rId1"/>
          <a:stretch/>
        </p:blipFill>
        <p:spPr>
          <a:xfrm>
            <a:off x="604800" y="2057400"/>
            <a:ext cx="7934400" cy="27432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136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26:28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